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AEF4F-D628-4CF8-9BB9-1D82D865B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5360"/>
            <a:ext cx="297000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C6F45C3E-2281-4B7D-BAB4-9AC1798DC91A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040" cy="411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6D2319-3319-442A-A3E6-6B9DE0A87F61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09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5360"/>
            <a:ext cx="297000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29AB9994-CF85-46E8-A510-D2E5D18AA763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820F62-FDE7-477D-8AC7-57AEF811720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960120" y="687960"/>
            <a:ext cx="4939200" cy="34264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5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the presentation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rst, we will briefly describe the basic resources that make up a grid comput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xt, we will describe the grid middleware a s the software layer to integrate heterogeneous computational platforms that could belong to different administrative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ct val="94000"/>
              </a:lnSpc>
              <a:spcBef>
                <a:spcPts val="414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ose two sections are an introduction to the main part of the presentation: a  proposal of taxonomy for grid computing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F93CD737-8568-4791-B081-661C4191798C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1BC51CBF-C12E-49D4-A96B-452508BDA498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8E3F65D6-10B6-4A97-B21E-9AF078BF940B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5EED646B-DF78-4C78-BD73-CCA96CB8AA7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5840" y="8685720"/>
            <a:ext cx="297000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</a:pPr>
            <a:fld id="{3C3F419C-5F70-4A05-AC24-79105BCA50A3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6760" cy="411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7840" rIns="87840" tIns="43920" bIns="43920" anchor="t">
            <a:noAutofit/>
          </a:bodyPr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centers for flexibility provid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4680" indent="-177480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 providers willing to offer their static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2AA9BA-5BA4-43C4-8E31-72FAA94DC057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2A4793-DE1B-4005-848C-5C3C53FA024C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s could be adjusted through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DS publishing time is greater than the time employed on deploying one VM plus SGE regis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4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letraAzul-fondoBlanco"/>
          <p:cNvPicPr/>
          <p:nvPr/>
        </p:nvPicPr>
        <p:blipFill>
          <a:blip r:embed="rId2"/>
          <a:stretch/>
        </p:blipFill>
        <p:spPr>
          <a:xfrm>
            <a:off x="1778040" y="4221000"/>
            <a:ext cx="5587560" cy="526680"/>
          </a:xfrm>
          <a:prstGeom prst="rect">
            <a:avLst/>
          </a:prstGeom>
          <a:ln w="9525">
            <a:noFill/>
          </a:ln>
        </p:spPr>
      </p:pic>
      <p:sp>
        <p:nvSpPr>
          <p:cNvPr id="1" name="Text Box 20"/>
          <p:cNvSpPr/>
          <p:nvPr/>
        </p:nvSpPr>
        <p:spPr>
          <a:xfrm>
            <a:off x="1979640" y="4724280"/>
            <a:ext cx="518436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Distributed Systems Architecture Research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</a:tabLst>
            </a:pPr>
            <a:r>
              <a:rPr b="1" lang="en-GB" sz="1600" spc="-1" strike="noStrike">
                <a:solidFill>
                  <a:srgbClr val="32425d"/>
                </a:solidFill>
                <a:latin typeface="Arial"/>
                <a:ea typeface="Arial"/>
              </a:rPr>
              <a:t>Universidad Complutense de Mad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1" descr="mec"/>
          <p:cNvPicPr/>
          <p:nvPr/>
        </p:nvPicPr>
        <p:blipFill>
          <a:blip r:embed="rId3"/>
          <a:stretch/>
        </p:blipFill>
        <p:spPr>
          <a:xfrm>
            <a:off x="5381640" y="6012000"/>
            <a:ext cx="1131480" cy="44748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22" descr="madridorg"/>
          <p:cNvPicPr/>
          <p:nvPr/>
        </p:nvPicPr>
        <p:blipFill>
          <a:blip r:embed="rId4"/>
          <a:stretch/>
        </p:blipFill>
        <p:spPr>
          <a:xfrm>
            <a:off x="3338640" y="5950080"/>
            <a:ext cx="807840" cy="691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23" descr="ue"/>
          <p:cNvPicPr/>
          <p:nvPr/>
        </p:nvPicPr>
        <p:blipFill>
          <a:blip r:embed="rId5"/>
          <a:stretch/>
        </p:blipFill>
        <p:spPr>
          <a:xfrm>
            <a:off x="7907400" y="5992920"/>
            <a:ext cx="767880" cy="52668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24" descr="logo3"/>
          <p:cNvPicPr/>
          <p:nvPr/>
        </p:nvPicPr>
        <p:blipFill>
          <a:blip r:embed="rId6"/>
          <a:stretch/>
        </p:blipFill>
        <p:spPr>
          <a:xfrm>
            <a:off x="592200" y="5972040"/>
            <a:ext cx="1280880" cy="604440"/>
          </a:xfrm>
          <a:prstGeom prst="rect">
            <a:avLst/>
          </a:prstGeom>
          <a:ln w="9525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45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D605C137-3516-4440-8502-E24F1426E911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46200" y="907920"/>
            <a:ext cx="8497440" cy="547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2425d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lick to edit Master text styles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le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1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rd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3" marL="1173240" indent="-9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th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22860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fth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88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AAB19F2E-9787-414A-8785-642E1A23A923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1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5" descr="logodef2"/>
          <p:cNvPicPr/>
          <p:nvPr/>
        </p:nvPicPr>
        <p:blipFill>
          <a:blip r:embed="rId2"/>
          <a:stretch/>
        </p:blipFill>
        <p:spPr>
          <a:xfrm>
            <a:off x="0" y="0"/>
            <a:ext cx="64908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3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20240" y="6603840"/>
            <a:ext cx="104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8668E535-FEF0-488C-9BB8-E7BA3022617C}" type="slidenum"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&lt;number&gt;</a:t>
            </a:fld>
            <a:r>
              <a:rPr b="1" lang="es-ES" sz="1200" spc="-1" strike="noStrike">
                <a:solidFill>
                  <a:srgbClr val="32425d"/>
                </a:solidFill>
                <a:latin typeface="Arial"/>
                <a:ea typeface="Arial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rot="10800000">
            <a:off x="360" y="382680"/>
            <a:ext cx="9143640" cy="4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2425d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 rot="10800000">
            <a:noAutofit/>
          </a:bodyPr>
          <a:p>
            <a:pPr>
              <a:lnSpc>
                <a:spcPct val="100000"/>
              </a:lnSpc>
            </a:pPr>
            <a:endParaRPr b="1" lang="es-ES" sz="1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4" name="Picture 29" descr="ucm"/>
          <p:cNvPicPr/>
          <p:nvPr/>
        </p:nvPicPr>
        <p:blipFill>
          <a:blip r:embed="rId3"/>
          <a:srcRect l="0" t="0" r="-22806" b="7285"/>
          <a:stretch/>
        </p:blipFill>
        <p:spPr>
          <a:xfrm>
            <a:off x="73080" y="76320"/>
            <a:ext cx="623520" cy="747360"/>
          </a:xfrm>
          <a:prstGeom prst="rect">
            <a:avLst/>
          </a:prstGeom>
          <a:ln w="9525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s-ES" sz="2000" spc="-1" strike="noStrike">
                <a:solidFill>
                  <a:srgbClr val="32425d"/>
                </a:solidFill>
                <a:latin typeface="Arial"/>
              </a:rPr>
              <a:t>Click to edit the outline text format</a:t>
            </a:r>
            <a:endParaRPr b="1" lang="es-ES" sz="2000" spc="-1" strike="noStrike">
              <a:solidFill>
                <a:srgbClr val="32425d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684360" y="2039040"/>
            <a:ext cx="7776720" cy="1326960"/>
          </a:xfrm>
          <a:prstGeom prst="roundRect">
            <a:avLst>
              <a:gd name="adj" fmla="val 12495"/>
            </a:avLst>
          </a:prstGeom>
          <a:solidFill>
            <a:srgbClr val="32425d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endParaRPr b="1" lang="es-ES" sz="32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762120" y="1981080"/>
            <a:ext cx="755928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ynamic Provision of Computing Resources from Grid Infrastructures and Cloud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8"/>
          <p:cNvSpPr/>
          <p:nvPr/>
        </p:nvSpPr>
        <p:spPr>
          <a:xfrm>
            <a:off x="628560" y="3488040"/>
            <a:ext cx="7762680" cy="77508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onstantino Vázquez    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Rubén S. Mon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Eduardo Huedo       Ignacio M. Llo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533520" y="514440"/>
            <a:ext cx="1021032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32425d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International Workshop on GRIDS, CLOUDS and 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32425d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 International Conference on Grid and Pervasive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Geneva, 4-9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Conclusions &amp; Future Work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762120" y="609480"/>
            <a:ext cx="74671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e to build arbitrarily complex grid infrastruc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 single point of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ynamically adapts its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i="1" lang="en-US" sz="1600" spc="-1" strike="noStrike">
              <a:solidFill>
                <a:srgbClr val="32425d"/>
              </a:solidFill>
              <a:latin typeface="Arial"/>
              <a:ea typeface="Arial"/>
            </a:endParaRPr>
          </a:p>
        </p:txBody>
      </p:sp>
      <p:sp>
        <p:nvSpPr>
          <p:cNvPr id="238" name="AutoShape 31"/>
          <p:cNvSpPr/>
          <p:nvPr/>
        </p:nvSpPr>
        <p:spPr>
          <a:xfrm>
            <a:off x="609480" y="25934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620640" y="30477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762120" y="3048120"/>
            <a:ext cx="746712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Manag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uristics to meet SLAs &amp;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adapters for Grid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M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31"/>
          <p:cNvSpPr/>
          <p:nvPr/>
        </p:nvSpPr>
        <p:spPr>
          <a:xfrm>
            <a:off x="1066680" y="1603440"/>
            <a:ext cx="7799040" cy="63972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2425d"/>
                </a:solidFill>
                <a:latin typeface="Arial"/>
                <a:ea typeface="Arial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3"/>
          <p:cNvSpPr/>
          <p:nvPr/>
        </p:nvSpPr>
        <p:spPr>
          <a:xfrm>
            <a:off x="628560" y="490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4"/>
          <p:cNvSpPr/>
          <p:nvPr/>
        </p:nvSpPr>
        <p:spPr>
          <a:xfrm>
            <a:off x="674640" y="5319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38360" y="5410080"/>
            <a:ext cx="8513280" cy="177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Samp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fael Mo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838080" y="2702880"/>
            <a:ext cx="80769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research is partially funded by th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“RESERVOIR– Resources and Services Virtualization without Barriers”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32425d"/>
                </a:solidFill>
                <a:latin typeface="Arial"/>
                <a:ea typeface="Arial"/>
              </a:rPr>
              <a:t>EU grant agreement 215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060720" y="5410080"/>
            <a:ext cx="457164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7840" indent="-177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vier Fon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3520440" y="4857840"/>
            <a:ext cx="2575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www.reservoir-fp7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380880" y="-46080"/>
            <a:ext cx="8316720" cy="50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32425c"/>
                </a:solidFill>
                <a:latin typeface="Arial"/>
                <a:ea typeface="Arial"/>
              </a:rPr>
              <a:t>Dynamic Provision of Computing Resources from Grid Infrastructures and Cloud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"/>
          <p:cNvPicPr/>
          <p:nvPr/>
        </p:nvPicPr>
        <p:blipFill>
          <a:blip r:embed="rId1"/>
          <a:stretch/>
        </p:blipFill>
        <p:spPr>
          <a:xfrm>
            <a:off x="1676520" y="3822120"/>
            <a:ext cx="62481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6200" y="-7632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2425d"/>
                </a:solidFill>
                <a:latin typeface="Arial"/>
                <a:ea typeface="Arial"/>
              </a:rPr>
              <a:t>Content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900000" y="476280"/>
            <a:ext cx="7635600" cy="289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ids &amp; Inter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ation for Provision of Gri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chitecture of th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. 1: Provisioning from Heterogeneous Grids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. 2: Extension to Cloud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s and Futu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Motivation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77880" y="1371600"/>
            <a:ext cx="8008560" cy="356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arch, supercomputing centers (and others) need to me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uctuating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ak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the ability to build arbitrary complex grid infrastructure able to sustain the demand required by any given serv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1"/>
          <p:cNvSpPr/>
          <p:nvPr/>
        </p:nvSpPr>
        <p:spPr>
          <a:xfrm>
            <a:off x="609480" y="459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What are we trying to sol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620640" y="914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AutoShape 31"/>
          <p:cNvSpPr/>
          <p:nvPr/>
        </p:nvSpPr>
        <p:spPr>
          <a:xfrm>
            <a:off x="609480" y="2745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620640" y="3200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Rounded Rectangle 30"/>
          <p:cNvSpPr/>
          <p:nvPr/>
        </p:nvSpPr>
        <p:spPr>
          <a:xfrm>
            <a:off x="685800" y="3581280"/>
            <a:ext cx="8000640" cy="1447560"/>
          </a:xfrm>
          <a:prstGeom prst="roundRect">
            <a:avLst>
              <a:gd name="adj" fmla="val 16667"/>
            </a:avLst>
          </a:prstGeom>
          <a:solidFill>
            <a:schemeClr val="accent1">
              <a:alpha val="15000"/>
            </a:schemeClr>
          </a:solidFill>
          <a:ln>
            <a:solidFill>
              <a:srgbClr val="b5dcd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Grids &amp; Interoperability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85800" y="1066680"/>
            <a:ext cx="8008560" cy="420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native ability of grids and grid technologies to interact directly via common ope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et of techniques to get production grid infrastructures to work together in the short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Interoperability VS Inter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609480" y="2745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Metaschedule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2"/>
          <p:cNvSpPr/>
          <p:nvPr/>
        </p:nvSpPr>
        <p:spPr>
          <a:xfrm>
            <a:off x="620640" y="3200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685800" y="3429000"/>
            <a:ext cx="3047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access to arbitrarily complex grid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ar architecture to implement adap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blo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4" descr="fig1.pdf"/>
          <p:cNvPicPr/>
          <p:nvPr/>
        </p:nvPicPr>
        <p:blipFill>
          <a:blip r:embed="rId1"/>
          <a:stretch/>
        </p:blipFill>
        <p:spPr>
          <a:xfrm>
            <a:off x="3733920" y="3352680"/>
            <a:ext cx="504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Virtualization for Provision of Grid Resourc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85800" y="1066680"/>
            <a:ext cx="8008560" cy="329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VM is an isolated runtime environment (guest OS and ap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Virtual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685800" y="38887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Benefits of Virtualization Plat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696600" y="43434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685800" y="3276720"/>
            <a:ext cx="8229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ural way to deal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terogene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ion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gacy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17184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Virtualization for Provision of Grid Resourc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85800" y="1066680"/>
            <a:ext cx="8008560" cy="768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systems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ed resources as 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 remo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-demand access to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rcial Cloud Provider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azon EC2, GoGrid, Elastic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ientific/Academic Cloud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us Ni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1"/>
          <p:cNvSpPr/>
          <p:nvPr/>
        </p:nvSpPr>
        <p:spPr>
          <a:xfrm>
            <a:off x="609480" y="5360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Cloud Computing: Infrastructure as a Service (Ia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620640" y="9903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685800" y="3276720"/>
            <a:ext cx="82292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Picture 2.png"/>
          <p:cNvPicPr/>
          <p:nvPr/>
        </p:nvPicPr>
        <p:blipFill>
          <a:blip r:embed="rId1"/>
          <a:stretch/>
        </p:blipFill>
        <p:spPr>
          <a:xfrm>
            <a:off x="1295280" y="1828800"/>
            <a:ext cx="6705360" cy="36057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1"/>
          <p:cNvSpPr/>
          <p:nvPr/>
        </p:nvSpPr>
        <p:spPr>
          <a:xfrm>
            <a:off x="628560" y="526032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Infrastructure Clou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639720" y="571500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8316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2425d"/>
                </a:solidFill>
                <a:latin typeface="Arial"/>
                <a:ea typeface="Arial"/>
              </a:rPr>
              <a:t>Architecture of the Solution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85800" y="1066680"/>
            <a:ext cx="8008560" cy="65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85800" y="3276720"/>
            <a:ext cx="82292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gwandsmarch.eps"/>
          <p:cNvPicPr/>
          <p:nvPr/>
        </p:nvPicPr>
        <p:blipFill>
          <a:blip r:embed="rId1"/>
          <a:stretch/>
        </p:blipFill>
        <p:spPr>
          <a:xfrm>
            <a:off x="990720" y="690840"/>
            <a:ext cx="7162560" cy="60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Provisioning from Heterogeneous Grid Infrastructure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32425d"/>
                </a:solidFill>
                <a:latin typeface="Arial"/>
                <a:ea typeface="Arial"/>
              </a:rPr>
              <a:t>Experime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609480" y="76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Testing the use of adapters in Grid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>
            <a:off x="620640" y="12189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85800" y="1334160"/>
            <a:ext cx="8008560" cy="365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iddleware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3" descr="archadapters.eps"/>
          <p:cNvPicPr/>
          <p:nvPr/>
        </p:nvPicPr>
        <p:blipFill>
          <a:blip r:embed="rId1"/>
          <a:stretch/>
        </p:blipFill>
        <p:spPr>
          <a:xfrm>
            <a:off x="5412240" y="1752480"/>
            <a:ext cx="3502800" cy="380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jobdistribadapters.eps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85800" y="2971800"/>
            <a:ext cx="4571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6200" y="-63360"/>
            <a:ext cx="748800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Extension to Cloud Providers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4"/>
          <p:cNvSpPr/>
          <p:nvPr/>
        </p:nvSpPr>
        <p:spPr>
          <a:xfrm>
            <a:off x="633240" y="304920"/>
            <a:ext cx="813708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32425d"/>
                </a:solidFill>
                <a:latin typeface="Arial"/>
                <a:ea typeface="Arial"/>
              </a:rPr>
              <a:t>Experim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1"/>
          <p:cNvSpPr/>
          <p:nvPr/>
        </p:nvSpPr>
        <p:spPr>
          <a:xfrm>
            <a:off x="609480" y="764640"/>
            <a:ext cx="8819640" cy="43704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2425d"/>
                </a:solidFill>
                <a:latin typeface="Arial"/>
                <a:ea typeface="Arial"/>
              </a:rPr>
              <a:t>Testing the overhead of running Worker Nodes in the Clo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>
            <a:off x="620640" y="1218960"/>
            <a:ext cx="8035920" cy="360"/>
          </a:xfrm>
          <a:prstGeom prst="line">
            <a:avLst/>
          </a:prstGeom>
          <a:ln w="9525">
            <a:solidFill>
              <a:srgbClr val="3242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85800" y="1334160"/>
            <a:ext cx="8008560" cy="4025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s made with Globus Nimbus Cloud, with SG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Manager -&gt; monitors GridWay -&gt; increase,decrease clust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d overh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00000"/>
              </a:lnSpc>
              <a:spcBef>
                <a:spcPts val="360"/>
              </a:spcBef>
              <a:spcAft>
                <a:spcPts val="360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419720" y="2666880"/>
            <a:ext cx="24379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S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M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to Grid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905120" y="2743200"/>
            <a:ext cx="2437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uttin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Picture 1.png"/>
          <p:cNvPicPr/>
          <p:nvPr/>
        </p:nvPicPr>
        <p:blipFill>
          <a:blip r:embed="rId1"/>
          <a:stretch/>
        </p:blipFill>
        <p:spPr>
          <a:xfrm>
            <a:off x="2209680" y="4660920"/>
            <a:ext cx="4520160" cy="143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GridWay Presentation Template">
  <a:themeElements>
    <a:clrScheme name="1_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idWay Presentation Template">
  <a:themeElements>
    <a:clrScheme name="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ridWay Presentation Template">
  <a:themeElements>
    <a:clrScheme name="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GridWay Presentation Template">
  <a:themeElements>
    <a:clrScheme name="2_GridWay Presentation Templat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1</TotalTime>
  <Application>LibreOffice/7.4.7.2$Linux_X86_64 LibreOffice_project/40$Build-2</Application>
  <AppVersion>15.0000</AppVersion>
  <Words>665</Words>
  <Paragraphs>204</Paragraphs>
  <Company>UC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9:32:44Z</dcterms:created>
  <dc:creator>Ruben S. Montero</dc:creator>
  <dc:description/>
  <dc:language>en-US</dc:language>
  <cp:lastModifiedBy>Tino Vázquez</cp:lastModifiedBy>
  <cp:lastPrinted>2009-04-29T15:37:44Z</cp:lastPrinted>
  <dcterms:modified xsi:type="dcterms:W3CDTF">2009-05-04T20:07:10Z</dcterms:modified>
  <cp:revision>5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